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gif" ContentType="image/gif"/>
  <Override PartName="/ppt/media/image12.gif" ContentType="image/gif"/>
  <Override PartName="/ppt/media/image15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D06E-DBB2-4008-B12E-4F8AF0DB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827-EAF1-4B4E-99AE-B12FF5C1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480C-B8BF-424C-8EEF-2A34FC6E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CB53-5AFC-4160-8E3A-4678C71D9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C89A1-1956-494C-B5B2-E428CA121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EAF2-F327-4BB9-999A-AB7296E8A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5E46-E097-405C-9CDB-9909FA12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6BE91-393D-40CC-B066-DB52ED6F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B2F7-AB5A-4392-A12A-797470B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5A9A-D27C-4790-A0FA-878BB41F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D1F30-3982-4B0B-B9BC-A2FD3FC2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A7F-79C8-4A6D-84AA-EE9FA94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842D-EBE9-4FE8-BF8E-EEB032B6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FD51-DA11-4A59-B50E-14C71AD5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A071-78A7-4B7D-9950-DDC3C33E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3895-9B41-4787-AFA3-4FB07176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4DD1-A561-4B24-BDD6-9816B9E0A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9EC7-3721-4310-AC16-7EE293A60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A3B0-4B59-4C84-B40B-414C4B60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05CF6-C41B-48D9-AC84-D3BBD5726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1AC-636A-4535-B18B-0499A4E35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51AB-06BB-4EF6-B873-74286236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CE9A-259E-45FC-A067-9F3BA591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4CB1-A5D2-40F1-B4E1-15510A2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E98A-1008-42D6-A74F-A780C91505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63FD-F2A0-409C-9A59-B06AF15E3B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image" Target="../media/image8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gi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85520" y="499680"/>
            <a:ext cx="800100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ннее выявление детей с ОВЗ и их коррекция в системе инклюзивного образова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-дефектолог (логопед, сурдопедагог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шей квалификационной 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ьга Владимировна Боров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1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глубленным изуч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остранных языков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 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едусматривает обучение по АООП с изменениями в содержательном и организационном разделах (программы отдельных учебных предметов, курсов коррекционно-развивающей области и курсов внеурочной деятельности, реализующиеся на основе УП), что предполагает дополнительные условия в общеобразовательном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е 55. п.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еятельности ПМП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ценка особенностей и уровня развития ребен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ыбор образовательного учре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у ребенка выявлены особенности развит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твержденные ПМПК, квалифицируемые как ОВЗ, то такому ребенку рекомендуется обучение по образовательной программе, учитывающей его трудности, «приспособленной» к наличию особых образовательных потребностей. Такая адаптированная основная общеобразовательная программа далее будет обозначаться как АООП определенного вида, основой определения которой является клиническая сущность имеющихся у ребенка нарушени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94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ООП НОО для обучающихся с ЗПР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рекомендуется обучающимся, у которых отмечаются трудности произвольной саморегуляции, проявляющейся в условиях деятельности и организованного поведения, а также устойчивые признаки общей социально-эмоциональной незрелости. Кроме того, у данной категории обучающихся могут быть признаки легкой органической недостаточности центральной нервной системы (ЦНС), выражающиеся в повышенной психической истощаемости с сопутствующим снижением умственной работоспособности и устойчивости к интеллектуальным и эмоциональным нагрузкам, а также типичные, в разной степени выраженные, дисфункции в сферах пространственных представлений, зрительно-моторной координации, фонетико-фонематического развития, нейродинамики и др. Одним из важнейших условий включения обучающегося с ЗПР в среду сверстников без ограничений здоровья является устойчивость форм адаптивного поведения. Обязательным условием является психолого-педагогическое сопровождение обучающегося, согласованная работа учителя начальных классов с педагогами, реализующими программу коррекционной работы, содержание которой для каждого обучающегося определяется с учетом его особых образовательных потребностей на основе рекомендаций ПМП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риант 7.2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адресован обучающимся с ЗПР, которые характеризуются уровнем развития ниже возрастной нормы, отставание может проявляться в целом или локально в отдельных функциях (замедленный темп или неравномерное становление познавательной деятельности). Отмечаются нарушения внимания, памяти, восприятия и других познавательных процессов, умственной работоспособности и целенаправленности деятельности, в той или иной степени затрудняющие усвоение школьных норм и школьную адаптацию в целом. Произвольность, самоконтроль, саморегуляция в поведении и деятельности, как правило, сформированы недостаточно. Обучаемость удовлетворительная, но часто избирательная и неустойчивая, зависящая от уровня сложности и субъективной привлекательности вида деятельности, а также от актуального эмоционального состояния. Возможна неадаптивность поведения, связанная как с недостаточным пониманием социальных норм, так и с нарушением эмоциональной регуляции, гиперактивностью. В этом случае предполагается, что они получают образование, сопоставимое с таковым для детей, не имеющих ограничений здоровья, в специальном классе или соответствующей образовательной организаци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 (ЗПР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введен   как «временная задержка психического развития»  в 60-е  и 70-е годы. Но потом слово «временная» было отброшено, так как  «задержка» и есть нечто временное. Предполагается, что  со временем темп психического развития ребенка претерпит позитивные изменения, ребенок по своему развитию догонит сверстников и его жизнь войдет в «нормальный»  режим, как возвращается в нормальный график движения поезд, нагнавший отставание в распис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енность ЗП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анным НИИ детства в России ежегод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ждается 5 - 8% детей с наследственной патологи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8-10 % детей имеют приобретенную патолог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4 - 5% составляют дети-инвалид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0% детей имеют стертые нарушения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нарушение нормального темпа психического развития, в результате чего ребенок, достигший школьного возраста, продолжает оставаться в кругу дошкольных, игровых интерес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ержка психического развития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специфическое сочетание незрелости эмоциональной и интеллектуальной сфе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возникновения ЗП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ягощенная наследственность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атология беременности и родов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хронические заболевания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ая экологи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фессиональные вредности у родителей до рождения ребенк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урение матери во время беременности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лкоголизм родителей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полная семья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благоприятный психологический микроклимат в семье и в шко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ституциональ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мат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ого происхожд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церебрально-органического гене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680" y="2142720"/>
            <a:ext cx="822960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ый отечественный и зарубежный опыт свидетельствует, что люди с нарушениями развития могут участвовать в жизни общества, реализовывать свои права и исполнять определённые обязанности, если государством и обществом создаётся среда, благоприятствующая процессам нормализации их жизни. Включение ребенка в образовательное пространство возможно только при учете его индивидуальных и специфических особенностей, что предполагает организацию диагностической и коррекционной работы с детьми на максимально раннем возрастном этап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татье 55. п.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ФЗ РФ от 29.12.2012 г. №273-ФЗ «Об образовании в Российской Федерации» определено, что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дети с ограниченными возможностями здоровья принимаются на обучение по адаптированной основной общеобразовательной программе только с согласия родителей (законных представителей) и на основании рекомендаций психолого-медико-педагогической комиссии (ПМПК)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2000"/>
            </a:br>
            <a:br>
              <a:rPr sz="2000"/>
            </a:b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птомы ЗПР конституционального происхождения (инфантилизма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фантильный тип телосложения с детской пластичностью мимики и мотор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ая сфера находится на более ранней ступени развития, соответствуя психическому складу ребенка более раннего возра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ЗПР конституционального происхождения (инфантилизм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армонический (простой)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исгармонический инфантилиз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рганический инфантилизм (органическое повреждение мозг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сихогенный инфантилиз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благоприят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правильно организованном учебном процессе быстро догоняют своих сверстников в общем психическом развит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матогенная ЗП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характеризуе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моциональной незрелостью, которая обусловлена хроническими инфекциями, аллергическими заболеваниями, врожденными и приобретенными пороками соматической сферы (сердца), детскими невроза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стойкой астенией, снижающей общий, психический и эмоциональный стату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– «домашние», круг общения ограничен, межличностные отношения нарушен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тели уделяют им много внимания, ограждают от проблем, что усугубляет состояние ребенка больше, чем заболе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требуют санаторных условий, отдыха, сна, правильного режима питания, медикаментозного ле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т от состояния здоровья. Грамотное использование времени ремиссии заболевания, помощь учителей- предметников и работа по индивидуальному плану  способны компенсировать отставание и пробелы в зна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6840" y="1071360"/>
            <a:ext cx="8472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психогенного происхож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словлена неблагоприятными условиями воспит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безнадзор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тологическое развитие личности с ЗПР по типу психической неустойчивости: неумение тормозить свои эмоции и желания; импульсивн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условиях гиперопек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формирование эгоцентрических устано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 психотравматических условиях воспитания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вротическое развитие лич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благоприятные условия воспитания могут привести сначала к нарушениям вегетативных функций, затем психических, и, прежде всего, эмоционального развития. Формируется эмоционально-неустойчивая, импульсивная, внушаемая лич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я данного расстройства – требует продолжительного времени  и совместной работы специалистов: психолога, невропатолога, психоневролога и психиатра- в отношении как детей, так и взрослых членов семь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фикация ЗПР (по Лебединской К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ПР церебрально-органического генез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причина: органическое поражение ЦНС на ранних этапах онтогенеза (патология беременности и родов, инфекции, интоксикации, травмы нервной системы в первые годы жизни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зрастная динамика определяется тяжестью поражения  ЦНС и временем возникновения дефект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ы срочные психолого-педагогические коррекционные мероприятия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348120">
              <a:lnSpc>
                <a:spcPct val="12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 обучения этих детей снижены. Дефектологи их рекомендуют обучать в специальных классах и школах. Возможности обучения вне специального учебного заведения ограничены. В 9-10 лет у них можно наблюдать  олигофреноподобную симптоматик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фические черты всех детей с ЗП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вышенная истощаемость и в результате низкая работоспособность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зрелость эмоц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лабость воли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граниченный запас представлений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дный словарь, трудности звукового анализа, несформированность навыков интеллектуальной деятельнос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осприятие замедле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 мышлении- недостаточность словесно-логических операци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традают все виды памят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еобходим более длительный период для приема и переработки информаци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нимание неустойчиво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едагогического подх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ним нужен особый подход, но абсолютно такое же отношение, как к детям с нормальным развит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хранительный реж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блюдение охранительного режима при обучении детей с интеллектуальной недостаточностью будет способствовать сохранению здоровья учащихся. Заключается охранительный режим, прежде всего,  в наполняемости класса, в дозированности объема учебного материала, соблюдения  временных рамок  урока и распис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ти с диагнозом «ЗПР» могут учиться в обычном классе  при наполняемости не более 20 человек, хорошем учебно-методическом оснащении, наличии квалифицированного педагога, который может индивидуально работать с 3-4 проблемными детьми( по мнению заведующей лаб. ИКП РАО Светланой Шевченко). Если класс большей наполняемости – это очень сл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ование уро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аждом уроке необходима частая смена видов деятельности, проведение физкультминуток разной направленности, применение здоровьесберегающих технологий и т.п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хем, алгоритмов, пиктограмм, мнемотабли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reeform 14"/>
          <p:cNvSpPr/>
          <p:nvPr/>
        </p:nvSpPr>
        <p:spPr>
          <a:xfrm>
            <a:off x="2411280" y="3789360"/>
            <a:ext cx="4537080" cy="144000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5" descr="54"/>
          <p:cNvPicPr/>
          <p:nvPr/>
        </p:nvPicPr>
        <p:blipFill>
          <a:blip r:embed="rId2"/>
          <a:stretch/>
        </p:blipFill>
        <p:spPr>
          <a:xfrm>
            <a:off x="3348000" y="1960560"/>
            <a:ext cx="3032280" cy="2660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banani"/>
          <p:cNvPicPr/>
          <p:nvPr/>
        </p:nvPicPr>
        <p:blipFill>
          <a:blip r:embed="rId3"/>
          <a:stretch/>
        </p:blipFill>
        <p:spPr>
          <a:xfrm>
            <a:off x="17928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" descr="184ad40ba05a"/>
          <p:cNvPicPr/>
          <p:nvPr/>
        </p:nvPicPr>
        <p:blipFill>
          <a:blip r:embed="rId4"/>
          <a:srcRect l="0" t="51083" r="0" b="0"/>
          <a:stretch/>
        </p:blipFill>
        <p:spPr>
          <a:xfrm>
            <a:off x="250920" y="3789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8" descr="banani"/>
          <p:cNvPicPr/>
          <p:nvPr/>
        </p:nvPicPr>
        <p:blipFill>
          <a:blip r:embed="rId5"/>
          <a:stretch/>
        </p:blipFill>
        <p:spPr>
          <a:xfrm>
            <a:off x="179280" y="1773360"/>
            <a:ext cx="11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184ad40ba05a"/>
          <p:cNvPicPr/>
          <p:nvPr/>
        </p:nvPicPr>
        <p:blipFill>
          <a:blip r:embed="rId6"/>
          <a:srcRect l="0" t="51083" r="0" b="0"/>
          <a:stretch/>
        </p:blipFill>
        <p:spPr>
          <a:xfrm>
            <a:off x="250920" y="33336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0" descr="banani"/>
          <p:cNvPicPr/>
          <p:nvPr/>
        </p:nvPicPr>
        <p:blipFill>
          <a:blip r:embed="rId7"/>
          <a:stretch/>
        </p:blipFill>
        <p:spPr>
          <a:xfrm>
            <a:off x="2050920" y="189000"/>
            <a:ext cx="1508400" cy="1116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1" descr="184ad40ba05a"/>
          <p:cNvPicPr/>
          <p:nvPr/>
        </p:nvPicPr>
        <p:blipFill>
          <a:blip r:embed="rId8"/>
          <a:srcRect l="0" t="51090" r="0" b="0"/>
          <a:stretch/>
        </p:blipFill>
        <p:spPr>
          <a:xfrm>
            <a:off x="4284720" y="260280"/>
            <a:ext cx="898560" cy="9367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2" descr="banani"/>
          <p:cNvPicPr/>
          <p:nvPr/>
        </p:nvPicPr>
        <p:blipFill>
          <a:blip r:embed="rId9"/>
          <a:stretch/>
        </p:blipFill>
        <p:spPr>
          <a:xfrm>
            <a:off x="6012000" y="189000"/>
            <a:ext cx="1508040" cy="1116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3" descr="184ad40ba05a"/>
          <p:cNvPicPr/>
          <p:nvPr/>
        </p:nvPicPr>
        <p:blipFill>
          <a:blip r:embed="rId10"/>
          <a:srcRect l="0" t="51090" r="0" b="0"/>
          <a:stretch/>
        </p:blipFill>
        <p:spPr>
          <a:xfrm>
            <a:off x="7956720" y="333360"/>
            <a:ext cx="898200" cy="936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banani"/>
          <p:cNvPicPr/>
          <p:nvPr/>
        </p:nvPicPr>
        <p:blipFill>
          <a:blip r:embed="rId11"/>
          <a:stretch/>
        </p:blipFill>
        <p:spPr>
          <a:xfrm>
            <a:off x="8028000" y="1628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5" descr="184ad40ba05a"/>
          <p:cNvPicPr/>
          <p:nvPr/>
        </p:nvPicPr>
        <p:blipFill>
          <a:blip r:embed="rId12"/>
          <a:srcRect l="0" t="51083" r="0" b="0"/>
          <a:stretch/>
        </p:blipFill>
        <p:spPr>
          <a:xfrm>
            <a:off x="8028000" y="3645000"/>
            <a:ext cx="966600" cy="1008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6" descr="banani"/>
          <p:cNvPicPr/>
          <p:nvPr/>
        </p:nvPicPr>
        <p:blipFill>
          <a:blip r:embed="rId13"/>
          <a:stretch/>
        </p:blipFill>
        <p:spPr>
          <a:xfrm>
            <a:off x="7812000" y="5084640"/>
            <a:ext cx="11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9" descr="banani"/>
          <p:cNvPicPr/>
          <p:nvPr/>
        </p:nvPicPr>
        <p:blipFill>
          <a:blip r:embed="rId14"/>
          <a:stretch/>
        </p:blipFill>
        <p:spPr>
          <a:xfrm flipH="1" rot="533400">
            <a:off x="6733080" y="1125000"/>
            <a:ext cx="1066680" cy="1440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0" descr="2CAN"/>
          <p:cNvPicPr/>
          <p:nvPr/>
        </p:nvPicPr>
        <p:blipFill>
          <a:blip r:embed="rId15"/>
          <a:stretch/>
        </p:blipFill>
        <p:spPr>
          <a:xfrm>
            <a:off x="-1224000" y="620640"/>
            <a:ext cx="1224000" cy="67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3" descr="2CAN"/>
          <p:cNvPicPr/>
          <p:nvPr/>
        </p:nvPicPr>
        <p:blipFill>
          <a:blip r:embed="rId16"/>
          <a:stretch/>
        </p:blipFill>
        <p:spPr>
          <a:xfrm flipH="1">
            <a:off x="9144000" y="765000"/>
            <a:ext cx="1295280" cy="673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4" descr="184ad40ba05a"/>
          <p:cNvPicPr/>
          <p:nvPr/>
        </p:nvPicPr>
        <p:blipFill>
          <a:blip r:embed="rId17"/>
          <a:srcRect l="0" t="51072" r="0" b="0"/>
          <a:stretch/>
        </p:blipFill>
        <p:spPr>
          <a:xfrm>
            <a:off x="1979640" y="2997360"/>
            <a:ext cx="1243080" cy="1296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5" descr="184ad40ba05a"/>
          <p:cNvPicPr/>
          <p:nvPr/>
        </p:nvPicPr>
        <p:blipFill>
          <a:blip r:embed="rId18"/>
          <a:srcRect l="0" t="51076" r="0" b="0"/>
          <a:stretch/>
        </p:blipFill>
        <p:spPr>
          <a:xfrm>
            <a:off x="3995640" y="2708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7" descr="184ad40ba05a"/>
          <p:cNvPicPr/>
          <p:nvPr/>
        </p:nvPicPr>
        <p:blipFill>
          <a:blip r:embed="rId19"/>
          <a:srcRect l="0" t="51076" r="0" b="0"/>
          <a:stretch/>
        </p:blipFill>
        <p:spPr>
          <a:xfrm>
            <a:off x="4211640" y="292428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8" descr="184ad40ba05a"/>
          <p:cNvPicPr/>
          <p:nvPr/>
        </p:nvPicPr>
        <p:blipFill>
          <a:blip r:embed="rId20"/>
          <a:srcRect l="0" t="51076" r="0" b="0"/>
          <a:stretch/>
        </p:blipFill>
        <p:spPr>
          <a:xfrm>
            <a:off x="3780000" y="2852640"/>
            <a:ext cx="620640" cy="647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9" descr="banani"/>
          <p:cNvPicPr/>
          <p:nvPr/>
        </p:nvPicPr>
        <p:blipFill>
          <a:blip r:embed="rId21"/>
          <a:stretch/>
        </p:blipFill>
        <p:spPr>
          <a:xfrm>
            <a:off x="5148360" y="2205000"/>
            <a:ext cx="792000" cy="1004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0" descr="banani"/>
          <p:cNvPicPr/>
          <p:nvPr/>
        </p:nvPicPr>
        <p:blipFill>
          <a:blip r:embed="rId22"/>
          <a:stretch/>
        </p:blipFill>
        <p:spPr>
          <a:xfrm>
            <a:off x="5364000" y="2421000"/>
            <a:ext cx="792360" cy="1004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1" descr="banani"/>
          <p:cNvPicPr/>
          <p:nvPr/>
        </p:nvPicPr>
        <p:blipFill>
          <a:blip r:embed="rId23"/>
          <a:stretch/>
        </p:blipFill>
        <p:spPr>
          <a:xfrm>
            <a:off x="4643280" y="2349360"/>
            <a:ext cx="792360" cy="1005120"/>
          </a:xfrm>
          <a:prstGeom prst="rect">
            <a:avLst/>
          </a:prstGeom>
          <a:ln w="0">
            <a:noFill/>
          </a:ln>
        </p:spPr>
      </p:pic>
      <p:pic>
        <p:nvPicPr>
          <p:cNvPr id="150" name="чу1034.wav" descr=""/>
          <p:cNvPicPr/>
          <p:nvPr/>
        </p:nvPicPr>
        <p:blipFill>
          <a:blip r:embed="rId2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4" descr="bird4-2"/>
          <p:cNvPicPr/>
          <p:nvPr/>
        </p:nvPicPr>
        <p:blipFill>
          <a:blip r:embed="rId25">
            <a:lum bright="-6000"/>
          </a:blip>
          <a:stretch/>
        </p:blipFill>
        <p:spPr>
          <a:xfrm>
            <a:off x="3132000" y="3429000"/>
            <a:ext cx="866880" cy="9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8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937 -0.0037 C -0.0665 -0.20046 0.05365 -0.36759 0.20834 -0.37708 C 0.36303 -0.38704 0.4941 -0.23472 0.50087 -0.03796 C 0.50782 0.1588 0.38803 0.32593 0.23299 0.33542 C 0.0783 0.34491 -0.05278 0.19306 -0.05937 -0.0037 Z">
                                      <p:cBhvr>
                                        <p:cTn id="116" dur="3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126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71 -0.08403 L -0.5309 -0.08403 L -0.5309 0.5338 L -0.04271 0.5338 L -0.04271 -0.08403 Z">
                                      <p:cBhvr>
                                        <p:cTn id="127" dur="3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9500"/>
                            </p:stCondLst>
                            <p:childTnLst>
                              <p:par>
                                <p:cTn id="12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0.1158 0.30995 E">
                                      <p:cBhvr>
                                        <p:cTn id="138" dur="1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1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7407E-006 L 0.01979 0.24189 E">
                                      <p:cBhvr>
                                        <p:cTn id="145" dur="1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43000"/>
                            </p:stCondLst>
                            <p:childTnLst>
                              <p:par>
                                <p:cTn id="1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11111E-006 L -0.06527 0.27847 E">
                                      <p:cBhvr>
                                        <p:cTn id="152" dur="1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16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59259E-006 L -0.31094 0.27338 E">
                                      <p:cBhvr>
                                        <p:cTn id="163" dur="1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8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48500"/>
                            </p:stCondLst>
                            <p:childTnLst>
                              <p:par>
                                <p:cTn id="16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556 -0.00509 L 0.30243 0.22061 E">
                                      <p:cBhvr>
                                        <p:cTn id="170" dur="1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00"/>
                            </p:stCondLst>
                            <p:childTnLst>
                              <p:par>
                                <p:cTn id="1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0023 L -0.04323 0.25232 E">
                                      <p:cBhvr>
                                        <p:cTn id="177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1" descr="47"/>
          <p:cNvPicPr/>
          <p:nvPr/>
        </p:nvPicPr>
        <p:blipFill>
          <a:blip r:embed="rId1"/>
          <a:stretch/>
        </p:blipFill>
        <p:spPr>
          <a:xfrm>
            <a:off x="7093080" y="170028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47"/>
          <p:cNvPicPr/>
          <p:nvPr/>
        </p:nvPicPr>
        <p:blipFill>
          <a:blip r:embed="rId2"/>
          <a:stretch/>
        </p:blipFill>
        <p:spPr>
          <a:xfrm>
            <a:off x="0" y="1341360"/>
            <a:ext cx="2050920" cy="30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0" descr="47"/>
          <p:cNvPicPr/>
          <p:nvPr/>
        </p:nvPicPr>
        <p:blipFill>
          <a:blip r:embed="rId3"/>
          <a:stretch/>
        </p:blipFill>
        <p:spPr>
          <a:xfrm>
            <a:off x="900000" y="907920"/>
            <a:ext cx="2051280" cy="3033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ффф"/>
          <p:cNvPicPr/>
          <p:nvPr/>
        </p:nvPicPr>
        <p:blipFill>
          <a:blip r:embed="rId4"/>
          <a:stretch/>
        </p:blipFill>
        <p:spPr>
          <a:xfrm>
            <a:off x="3780000" y="2708280"/>
            <a:ext cx="2703240" cy="28098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5"/>
          <p:cNvSpPr/>
          <p:nvPr/>
        </p:nvSpPr>
        <p:spPr>
          <a:xfrm>
            <a:off x="7308720" y="333360"/>
            <a:ext cx="1440000" cy="1440000"/>
          </a:xfrm>
          <a:prstGeom prst="sun">
            <a:avLst>
              <a:gd name="adj" fmla="val 2500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r5-1"/>
          <p:cNvPicPr/>
          <p:nvPr/>
        </p:nvPicPr>
        <p:blipFill>
          <a:blip r:embed="rId6">
            <a:lum bright="-6000"/>
          </a:blip>
          <a:srcRect l="12244" t="0" r="14272" b="0"/>
          <a:stretch/>
        </p:blipFill>
        <p:spPr>
          <a:xfrm>
            <a:off x="971640" y="3051000"/>
            <a:ext cx="2592360" cy="2648160"/>
          </a:xfrm>
          <a:prstGeom prst="rect">
            <a:avLst/>
          </a:prstGeom>
          <a:ln w="0">
            <a:noFill/>
          </a:ln>
        </p:spPr>
      </p:pic>
      <p:pic>
        <p:nvPicPr>
          <p:cNvPr id="158" name="041081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7 0.05333 C 0.081 0.06533 0.102 0.072 0.124 0.072 C 0.149 0.072 0.169 0.06533 0.183 0.05333 L 0.25 0 E">
                                      <p:cBhvr>
                                        <p:cTn id="185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 -2.96296E-006 L 0.18177 0.05324 C 0.16736 0.06528 0.14618 0.07199 0.12396 0.07199 C 0.09861 0.07199 0.0783 0.06528 0.06406 0.05324 L -0.00382 -2.96296E-006 E">
                                      <p:cBhvr>
                                        <p:cTn id="188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7" nodeType="afterEffect" fill="hold" presetClass="path" presetID="3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4722 L -0.22656 0.1868 C -0.26666 0.21828 -0.32656 0.23611 -0.38888 0.23611 C -0.46007 0.23611 -0.51701 0.21828 -0.55711 0.1868 L -0.74809 0.04722 E">
                                      <p:cBhvr>
                                        <p:cTn id="198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0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2066 0.04722 L -0.53715 -0.03079 C -0.49861 -0.04838 -0.44097 -0.05787 -0.38107 -0.05787 C -0.3125 -0.05787 -0.25781 -0.04838 -0.21927 -0.03079 L -0.03541 0.04722 E">
                                      <p:cBhvr>
                                        <p:cTn id="201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8" nodeType="afterEffect" fill="hold" presetClass="path" presetID="7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10463 L 0.00017 -0.46204 L 0.57517 -0.46204 L 0.57517 0.10463 L 0.00017 0.10463 Z">
                                      <p:cBhvr>
                                        <p:cTn id="209" dur="3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15" nodeType="after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C 0.12101 0.17685 0.22552 0.04236 0.22552 -0.12246 C 0.2257 -0.28727 0.12101 -0.4213 -0.00694 -0.4213 C -0.13489 -0.4213 -0.23889 -0.2875 -0.23889 -0.12269 C -0.23889 0.04213 -0.13507 0.17662 -0.0066 0.17708 Z">
                                      <p:cBhvr>
                                        <p:cTn id="216" dur="3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218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224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230" nodeType="afterEffect" fill="hold" presetClass="entr" presetID="55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23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7000"/>
                            </p:stCondLst>
                            <p:childTnLst>
                              <p:par>
                                <p:cTn id="241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0.01945 L 0.14236 -0.18194 C 0.17222 -0.22754 0.21684 -0.25208 0.26337 -0.25208 C 0.31667 -0.25208 0.35903 -0.22754 0.38889 -0.18194 L 0.5316 0.01945 E">
                                      <p:cBhvr>
                                        <p:cTn id="242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9000"/>
                            </p:stCondLst>
                            <p:childTnLst>
                              <p:par>
                                <p:cTn id="244" nodeType="afterEffect" fill="hold" presetClass="entr" presetID="10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4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66 0.17708 L 0.14358 0.17315 E">
                                      <p:cBhvr>
                                        <p:cTn id="249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4000"/>
                            </p:stCondLst>
                            <p:childTnLst>
                              <p:par>
                                <p:cTn id="25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2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6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9000"/>
                            </p:stCondLst>
                            <p:childTnLst>
                              <p:par>
                                <p:cTn id="26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2.59259E-006 L -0.33073 2.59259E-006 E">
                                      <p:cBhvr>
                                        <p:cTn id="261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3" dur="3000" fill="hold"/>
                                        <p:tgtEl>
                                          <p:spTgt spid="1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м из условий ФГОС НОО ОВЗ является кадровое обеспечение ( Приказ №1598 и 1599 от 19.12.2014г. «Об утверждении ФГОС НОО ОВЗ» п.3.4.)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дровое обеспечение предполагает междисциплинарный состав специалистов (учитель-дефектолог, учитель-логопед, педагог-психолог), компетентных в понимании особых образовательных потребностей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Помощь педагога на уро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ль  может четко структурировать поведение ребенка на уроке. Например, сделать для ребенка специальные памятки с записью алгоритма действ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Открываешь учеб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Слушаешь, какой номер задания я называ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Опускаешь глаза на страницу 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. 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т пошаговый алгоритм ребенку  можно сделать  в фор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лад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я деятельности ребенка учите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орошо, если ребенок сидит  в зоне прямого доступа учителя. Педагог должен время от времени подходить к нему и «ставить внешние вешки», направляя его действия: Мы проходим букву «А», сейчас мы ее пишем вот здесь, отсюда и сюда. Попробуй. Хорошо, если кто-то помимо педагога будет помогать ученику в организации его пове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жны также внешние мотивирующие подкрепления: «Вот здесь ты собрался и очень хорошо выполнил задание». Желательно сравнивать ребенка с самим собой «Вчера на третьем уроке ты был спокойнее и мы с тобой все хорошо сделал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обые методы подачи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ормы подачи материала  с учетом психофизиологических особенностей ребенка.  Чем проще и короче фраза педагога, тем выше вероятность, что ученик ее пойм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едует давать ребенку больше времени на запоминание и отработку учебных навы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планировании уроков  рекомендуется использовать игровые моменты. Возможно вносить отдельные  элементы игры  в учебные занятия. Дети данной категории неутомимы в иг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яркую наглядность, применять ИК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дача учебного матери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ебный материал должен подноситься небольшими дозами, его усложнение следует  осуществлять постепенно. Необходимо учить ребенка пользоваться ранее усвоенными знания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заимоотношение учителя с уче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важно говорить с ребенком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ягки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оброжелательны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тоном и поощрять его за малейшие успехи.  Всеми возможными способами стимулировать  учебную активность ребе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каментозное ле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требуют  обязательной медикаментозной поддержки, но назначает ее врач-специа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оотропные препараты (пирацетам, энцефабол, когитум, семакс, церебрум композитум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едативные препараты (фенибут, персен, магне-В6, ридазин и т.д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нсация ЗП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недостаток развития преодолевается тем успешнее, чем раньше создаются для этого условия, в О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компенсация психической недостаточности, интеллектуальных отклонений, личностного недоразвития у детей с ЗПР происходит путем упорной коррекционной работы медика, педагога, учителя-дефектолога, педагога-психолога, учителя-логопеда, социального педаг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- третьих, если условия массового обучения, не адаптированные к особым потребностям ребенка с ЗПР, это является тормозящим фактором  в его умственном развитии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озможности   компенсации детей с ЗП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задержка развития детей  в 20% случаях при совместной работе медиков, педагогов, психологов, родителей компенсируется и развитие ребенка приближается к нормативному к 10-11 годам, в остальных случаях дети получают другой диагно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ресс-дифференциация детей с ЗПР и детей с У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ересказ текста, выбранного в соответствии с возрас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ъяснение смысла любой пословицы. Например: «Не имей 100 рублей, а имей 100 друз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-за несформированности абстрактно-логического мышления дети с умственной отсталостью не выполнят зад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31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сследования коэффициента умственного развития (IQ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изированная методика Д. Вексл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Д. Векслера включает 12 субтестов вербального и невербального характе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ана на детей от 5 до 16 л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214200" y="21024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Дети с ОВЗ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дети-инвалиды, либо дети в возрасте от 0 до 18 лет, не признанные в установленном порядке детьми-инвалидами, но имеющие временные или постоянные отклонения в физическом и (или) психическом развитии и нуждающиеся в создании специальных условий обучения и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тегории детей с ОВЗ по ФГ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2"/>
          <p:cNvSpPr/>
          <p:nvPr/>
        </p:nvSpPr>
        <p:spPr>
          <a:xfrm>
            <a:off x="357120" y="2857680"/>
            <a:ext cx="84297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ети с нарушениями зрения (слепые, слабовидящ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Дети с нарушениями слуха (глухие, слабослышащие, позднооглохшие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Дети с тяжелыми нарушениями речи (ТН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ти с нарушениями опорно-двигательного аппарата (НО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Дети с задержкой психического развития (ЗПР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ети с нарушением интеллекта (У/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Дети с расстройствами аутистического спектра (Р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тяжёлыми множественны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ушениями развития (ТМНР)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у ребенка сочетаются три и более первичных нарушения (умственно отсталые слабовидящие глухие дети)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НЫЕ АДАПТИРОВАННЫЕ  ОБРАЗОВАТЕЛЬНЫЕ ПРОГРАММЫ ДЛЯ КАТЕГОРИЙ ОБУЧАЮЩИХСЯ С ОВЗ В СООТВЕТСТВИИ С ФГОС НОО ОВЗ РАЗМЕЩЕНЫ НА ЭЛЕКТРОННОМ РЕСУР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85840" y="285840"/>
          <a:ext cx="8643960" cy="6424560"/>
        </p:xfrm>
        <a:graphic>
          <a:graphicData uri="http://schemas.openxmlformats.org/drawingml/2006/table">
            <a:tbl>
              <a:tblPr/>
              <a:tblGrid>
                <a:gridCol w="5102280"/>
                <a:gridCol w="3541680"/>
              </a:tblGrid>
              <a:tr h="10566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ТЕГОРИЯ ДЕТЕЙ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АРИАНТЫ ПРОГРАММ ФГОС НОО ОБУЧАЮЩИХСЯ С ОВ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ЛУХ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, 1.2, 1.3, 1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СЛЫША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ПЫ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, 2.2, 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, 3.2, 3.3, 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БОВИДЯЩИЕ ДЕ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, 4.2, 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ТЯЖЕЛЫМИ НАРУШЕНИЯМИ РЕЧ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, 5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НАРУШЕНИЯМИ 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ЗАДЕРЖКОЙ ПСИХИЧЕСКОГО РАЗВИ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, 6.2, 6.3, 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1, 7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РАССТРОЙСТВАМИ АУТИСТИЧЕСКОГО СПЕКТ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1, 8.2, 8.3, 8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И С УМСТВЕННОЙ ОТСТАЛОСТЬЮ(ИНТЕЛЛЕКТУАЛЬНЫМИ НАРУШЕНИЯМ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599, вар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у ребенка выявлены особенности развития, подтвержденные ПМПК, квалифицируемые как ОВЗ, то такому ребенку рекомендуется обучение по образовательной программе, учитывающей его трудности, «приспособленной» к наличию особых образовательных потребностей. Такая адаптированная основная общеобразовательная программа (АООП), основой определения которой является клиническая сущность имеющихся у ребенка нару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вариан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полагает, что обучающийся получает образование, полностью соответствующее по итоговым достижениям к моменту завершения обучения, образованию сверстников, находясь в их среде и в те же сроки обучения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по 1 варианту свидетельствует о том, что ребенок обучается по общему с детьми без ОВЗ учебному плану. Его особые образовательные потребности удовлетворяются в ходе внеурочной работы. Суть потребностей и, соответственно, необходимого сопровождения, обозначена в соответствующем приложении ФГОС ООП и АООП. Конкретное содержание сопровождения устанавливается консилиумом образовательной организации(шППк ОО), ПМПК обозначает лишь основные его на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уче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арианту 1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ГОС ОВЗ может быть организовано по основной образовательной программе, при необходимости –в соответствии с индивидуальным учебным планом. Обучение по индивидуальному учебному плану в пределах осваиваемых общеобразовательных программ осуществляется в порядке, установленном локальными нормативными актами образовательной организации. При прохождении обучения в соответствии с индивидуальным учебным планом его продолжительность может быть изменена образовательной организацией с учетом особенностей и образовательных потребностей конкретного обучающегося.  АООП для таких обучающихся разрабатывается в части программы коррекционной работы, которая реализуется во внеуроч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-й вариан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предполагает, что обучающийся получает образование в пролонгированные сроки обучения. Обучение по второму варианту свидетельствует о том, что уровень сложности образовательной программы ниже, в учебный план включены курсы коррекционно-развивающей области, обозначенные во ФГОС и АООП. Наряду с академическими достижениями внимание обращено и к формированию сферы жизненной компетенции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бочая группа образовательной организации, созданная локальным актом, вносит необходимые дополнения в АООП, касающиеся оценки достижений в области жизненной компетенции и содержания программы коррекционной работ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3:06:38Z</dcterms:created>
  <dc:creator>user</dc:creator>
  <dc:description/>
  <dc:language>en-US</dc:language>
  <cp:lastModifiedBy>Учитель</cp:lastModifiedBy>
  <dcterms:modified xsi:type="dcterms:W3CDTF">2020-12-21T08:58:05Z</dcterms:modified>
  <cp:revision>143</cp:revision>
  <dc:subject/>
  <dc:title>Аутизм</dc:title>
</cp:coreProperties>
</file>